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464-1EC6-44AE-A77E-9219C784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AD5-FD80-49A8-BCDC-F073B717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9EE-EB81-4BE1-9E83-6313FC17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D7A-9A2A-42C6-8D06-1419F3A9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FA8-10F3-46E5-BF23-6CE38C42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D69-CB95-475E-9A74-42000A1A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0D1-D91E-4422-A65D-4EA8ED4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A7C-C0B3-40A2-97B8-DDA4ACCB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6A9-75C6-4AFB-8183-3FFB28E4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63C-12CD-439F-BC2A-E12B2B2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EB8-A17B-458E-A8E3-1475EF4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EF7-40FF-4F59-9149-BDCC441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2F8D-0636-4A54-953F-7A1544273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44880" y="1116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440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FIFE  ASSOC.                     DUNFERMLINE  ASSOC.                     ABBEYVIEW                                     ABBEYVIEW                                   ABBEYVIEW                                ABBEYVIEW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OUR                               ABERDOUR  100TH                           BRITISH  ALCAN                 BEVERIDGE  PARK  PUBLIC               BEVERIDGE  PARK          BEVERIDGE  PAR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WHILL                                          BOWHILL                                          BOWHILL                                     BOWHILL  75TH                    BOWHILL  MILLENNIUM                         BROAD  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0708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AD  STREET                       BROAD  STREET  10TH                            BURNTISLAND                             BURNTISLAND  100TH                       CHARLESTOWN                       CHARLESTOW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4520" y="3333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0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073240" y="40464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048520" y="260280"/>
            <a:ext cx="122580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1800" y="213372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2133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1989000"/>
            <a:ext cx="8780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537240" y="1989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7977240" y="2060640"/>
            <a:ext cx="124308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560520" y="371628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07324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681960" y="3716280"/>
            <a:ext cx="93312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265960" y="371628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516640"/>
            <a:ext cx="96984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44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5168880" y="537372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537372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8121600" y="4941720"/>
            <a:ext cx="1298520" cy="163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513240" y="404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168880" y="3716280"/>
            <a:ext cx="1122480" cy="104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3657600" y="3645000"/>
            <a:ext cx="1001880" cy="115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024520" y="2060640"/>
            <a:ext cx="11556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8:01:46Z</dcterms:created>
  <dc:creator>JOHN YOUNG</dc:creator>
  <dc:description/>
  <dc:language>en-US</dc:language>
  <cp:lastModifiedBy>JY</cp:lastModifiedBy>
  <cp:lastPrinted>2000-08-08T16:50:42Z</cp:lastPrinted>
  <dcterms:modified xsi:type="dcterms:W3CDTF">2005-12-12T11:00:31Z</dcterms:modified>
  <cp:revision>28</cp:revision>
  <dc:subject/>
  <dc:title>No Slide Title</dc:title>
</cp:coreProperties>
</file>